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6.wmf" ContentType="image/x-wmf"/>
  <Override PartName="/ppt/media/image25.png" ContentType="image/png"/>
  <Override PartName="/ppt/media/image19.jpeg" ContentType="image/jpeg"/>
  <Override PartName="/ppt/media/image7.gif" ContentType="image/gif"/>
  <Override PartName="/ppt/media/image28.png" ContentType="image/png"/>
  <Override PartName="/ppt/media/image10.jpeg" ContentType="image/jpeg"/>
  <Override PartName="/ppt/media/image30.png" ContentType="image/png"/>
  <Override PartName="/ppt/media/image5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4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8.png" ContentType="image/png"/>
  <Override PartName="/ppt/media/image21.wmf" ContentType="image/x-wmf"/>
  <Override PartName="/ppt/media/image22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45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46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47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BD46-A1DE-4DEB-9346-2A8C941B6E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1D8B-C37F-4D65-BCE0-F014AB1C3C1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F43D-90CC-4B6C-AF55-276F7614DD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BF2-F6D8-42C0-B55C-5B817F7FE83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545B-D6EC-467A-BDFC-AF1970EE9B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9E11-4C34-4889-B3C3-5237E1C8C42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71DB-CB1A-4837-9FE3-F5A0ED430F4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F2E-F83A-42BF-942A-A506B77C79E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734C-1A8B-4C75-BF67-3386D53D707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0919-F254-4EE5-B712-05821A9F894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E768-17A4-45F8-BA20-9870BB8D67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057-796C-4B4D-B6BE-3839A797D9F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2456-4FE2-46ED-A769-89FCD8B7F15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740D-3CEC-494B-8724-5500FBAB54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AC1-4A86-4D0E-AB59-E4E59515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F9E-FEA9-444C-8833-CC567F11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6E9-815E-4468-A9F2-F1E6F033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71D-7CA5-4B83-85C7-5ED2D3FF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364BA-7350-45BA-9948-725DEFF5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FC99E-02AC-47E3-87DB-300D20F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E5D41-2C5F-4078-9017-B7E7C13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2E1C8-14E5-44F4-9E38-56B540C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E5C1-D86B-4690-B108-00EBD16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C03EA-DACE-4652-B9E6-FB46419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3CFF1-3CF9-4747-AD32-8BFB2622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1CC6D-FA3F-4DAE-B7E4-01E654DF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811CE-1A0E-41BE-8264-E09C7C8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695B7-1B2B-4359-80EA-6C32B36E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651E-B216-4E72-AF02-515A632E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94FF-43CC-4E3A-BF9B-691F77C9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A17C84-12C4-4959-8310-369FF6E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92273B-DCE9-44A0-BC45-C25EC85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B42890-32EB-4448-A931-E7FAEB1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A2D076-2646-4175-B2D0-6FC5640D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108384-3322-4031-9E1D-E1DB81AA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8D2DD4-FDB1-410A-97C5-CD3A448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E74731-6E95-4E7D-AD07-2AF312D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C0D-4C89-4E0B-BC95-D72E36CB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F477FB-6669-4955-8677-C597CF0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224991-FC3D-4496-BB8E-7AFF381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8011C7-093B-4538-A039-E423D53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B5347-69C0-4594-84DD-29F9CBA4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CE7144-4FF1-4281-919C-D7DC8E82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5F0E36-07F0-4947-BDBC-6AE52F07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661B4A-34BD-4FB1-83BE-07FD2334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0CC908-5C8D-42CB-878A-1853023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16B546-78D1-40AB-86CC-06714102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F190E9-9FCA-4BFD-9370-4A50782B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2E276A-2172-499A-9755-8B455760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FE4F08-8C29-44DE-BA25-B6B7E51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637F96-6711-4938-BE4A-E01C0C1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8408E1-A339-4B6D-BBC5-0BFF715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AC5D4D-D926-4DC4-B63F-5776D83B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7F7521-8747-4139-AF8B-6963AD97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3FC5BC-6034-4CF9-B44B-6BEF0154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252DEC-D243-442B-8C73-42165E00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516CA2-4F3E-41E5-BE8F-F100659E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4DBC04-B52F-49C9-ABB4-329C85E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1139C9-BD01-47A8-80B9-B28F7DC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718936-9A5D-4FFB-888E-2E89FD78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EC2707-ECBB-4CBB-88A4-D325C8C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96F4FB-5748-4D96-BF44-5700ACE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E617DA-1342-4E09-9F83-55492B7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68448E-B40B-436F-AFE0-9AFCBEC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E802F1-4500-400E-81EC-8818F50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624F19-E115-49A9-8D9F-7E69AB05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2048AB-EC4F-4471-B524-2220E683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913-BDDE-4626-A6A6-8F71902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3EE9D-C3CF-49A0-ABBA-F5BAF870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6FB2F-2BEC-4817-A30D-2550B033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238F2-96DD-48BF-AAC6-40E63FF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6D4-9041-457B-850C-C216AA8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9D6AE-B656-42A0-B350-987F8A8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0DC68-E33B-4558-9C6E-AAB0437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B8844-3E5C-456C-A396-4B9F7DE1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ED6F5-4198-465B-84E4-52E8484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989C1-F0C9-4641-926F-A222958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75AE0-209B-4C72-B22E-A854E95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C6EA8-932A-4897-B2CB-73691D75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37CE0-6623-4770-AD57-9AB9F8D6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40F64-8EC8-4257-82D4-D12A3A63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CC5-1484-4DD0-95BA-43141A0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E90-D306-4D57-BF3C-A982D4E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D4D-7BB5-4013-8B03-66A3AB50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6A7-606D-491E-B2B2-DB03E861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8CE-909F-4C53-A17A-5D6EF3E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C9A-2C38-4042-8522-BFC6D96F2128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376B-B95C-445B-8EBD-412B40DDD66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91F3-F510-4784-B9F3-9E9BB43BC57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9986-B36F-4CC9-BB8E-5B8CA80ADB9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6FB-BB27-4817-B556-0C93E38A240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908-CCF2-428A-BD92-3F9D8F29A7F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E24B-C7F1-4554-9614-46C6010711B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B9B-778F-4084-845B-CBE7708DBE7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BDC-7445-4387-BD63-D8BD4224DE0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BBD8-C880-4997-B1A1-DCFCB5E2B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4A71-054E-429A-96F1-FF8D9E1F7E3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85B-5B86-4D18-BA5E-BFE6968CE45D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F03-83C2-4D3F-8907-FDF7E09346B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AB7-A89E-4058-84EA-1D41C1076DD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E429-4407-4978-B3E9-D19970FC227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9F1A-A2A7-423B-BB53-476450BF12B7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E88-3E56-4AFE-8307-4566EAE4B64F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427-9247-46CF-B35C-7127AEAC9FA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B744-EC1D-432C-9499-0B0CA59EDB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C1A-618F-4CE5-B499-CF426F421AB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7C9E-B75C-46BA-AFD0-6ACA64B1DA0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8F0-2C5E-40EF-AC25-995DA9F8F49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27B0-EC2D-4415-9BA5-419DB6A099B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3520-BE9A-40ED-A308-D52E88618FB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cebook.com/" TargetMode="External"/><Relationship Id="rId2" Type="http://schemas.openxmlformats.org/officeDocument/2006/relationships/hyperlink" Target="http://www.qq.com/" TargetMode="External"/><Relationship Id="rId3" Type="http://schemas.openxmlformats.org/officeDocument/2006/relationships/hyperlink" Target="http://www.myspace.com/" TargetMode="External"/><Relationship Id="rId4" Type="http://schemas.openxmlformats.org/officeDocument/2006/relationships/hyperlink" Target="http://vkontakte.ru/" TargetMode="External"/><Relationship Id="rId5" Type="http://schemas.openxmlformats.org/officeDocument/2006/relationships/hyperlink" Target="http://www.orkut.com/" TargetMode="External"/><Relationship Id="rId6" Type="http://schemas.openxmlformats.org/officeDocument/2006/relationships/hyperlink" Target="http://hi5.com/" TargetMode="External"/><Relationship Id="rId7" Type="http://schemas.openxmlformats.org/officeDocument/2006/relationships/hyperlink" Target="http://www.odnoklassniki.ru/" TargetMode="External"/><Relationship Id="rId8" Type="http://schemas.openxmlformats.org/officeDocument/2006/relationships/hyperlink" Target="http://www.maktoob.com/" TargetMode="External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0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7812000" y="1413000"/>
            <a:ext cx="1332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4"/>
          <p:cNvSpPr/>
          <p:nvPr/>
        </p:nvSpPr>
        <p:spPr>
          <a:xfrm>
            <a:off x="755640" y="2421000"/>
            <a:ext cx="2808360" cy="2232000"/>
          </a:xfrm>
          <a:prstGeom prst="ellipse">
            <a:avLst/>
          </a:prstGeom>
          <a:solidFill>
            <a:srgbClr val="f99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5"/>
          <p:cNvSpPr/>
          <p:nvPr/>
        </p:nvSpPr>
        <p:spPr>
          <a:xfrm>
            <a:off x="3059280" y="2060640"/>
            <a:ext cx="2376360" cy="1490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6"/>
          <p:cNvSpPr/>
          <p:nvPr/>
        </p:nvSpPr>
        <p:spPr>
          <a:xfrm>
            <a:off x="4716360" y="2708280"/>
            <a:ext cx="2592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7"/>
          <p:cNvSpPr/>
          <p:nvPr/>
        </p:nvSpPr>
        <p:spPr>
          <a:xfrm>
            <a:off x="154764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8"/>
          <p:cNvSpPr/>
          <p:nvPr/>
        </p:nvSpPr>
        <p:spPr>
          <a:xfrm>
            <a:off x="2124000" y="458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0"/>
          <p:cNvSpPr/>
          <p:nvPr/>
        </p:nvSpPr>
        <p:spPr>
          <a:xfrm>
            <a:off x="684360" y="3213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1"/>
          <p:cNvSpPr/>
          <p:nvPr/>
        </p:nvSpPr>
        <p:spPr>
          <a:xfrm>
            <a:off x="10429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2"/>
          <p:cNvSpPr/>
          <p:nvPr/>
        </p:nvSpPr>
        <p:spPr>
          <a:xfrm>
            <a:off x="205092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4"/>
          <p:cNvSpPr/>
          <p:nvPr/>
        </p:nvSpPr>
        <p:spPr>
          <a:xfrm>
            <a:off x="198756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29955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478980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7"/>
          <p:cNvSpPr/>
          <p:nvPr/>
        </p:nvSpPr>
        <p:spPr>
          <a:xfrm>
            <a:off x="7021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8"/>
          <p:cNvSpPr/>
          <p:nvPr/>
        </p:nvSpPr>
        <p:spPr>
          <a:xfrm>
            <a:off x="3780000" y="3357720"/>
            <a:ext cx="21564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9"/>
          <p:cNvSpPr/>
          <p:nvPr/>
        </p:nvSpPr>
        <p:spPr>
          <a:xfrm>
            <a:off x="3348000" y="2205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"/>
          <p:cNvSpPr/>
          <p:nvPr/>
        </p:nvSpPr>
        <p:spPr>
          <a:xfrm>
            <a:off x="4067280" y="1989000"/>
            <a:ext cx="21564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4643280" y="206064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4356000" y="3429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5003640" y="414972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4"/>
          <p:cNvSpPr/>
          <p:nvPr/>
        </p:nvSpPr>
        <p:spPr>
          <a:xfrm>
            <a:off x="5940360" y="2637000"/>
            <a:ext cx="216000" cy="21564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5"/>
          <p:cNvSpPr/>
          <p:nvPr/>
        </p:nvSpPr>
        <p:spPr>
          <a:xfrm>
            <a:off x="6084720" y="443700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6"/>
          <p:cNvSpPr/>
          <p:nvPr/>
        </p:nvSpPr>
        <p:spPr>
          <a:xfrm>
            <a:off x="7093080" y="3141720"/>
            <a:ext cx="21564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7"/>
          <p:cNvSpPr/>
          <p:nvPr/>
        </p:nvSpPr>
        <p:spPr>
          <a:xfrm>
            <a:off x="3059280" y="299736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8"/>
          <p:cNvSpPr/>
          <p:nvPr/>
        </p:nvSpPr>
        <p:spPr>
          <a:xfrm>
            <a:off x="4932360" y="2924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9"/>
          <p:cNvSpPr/>
          <p:nvPr/>
        </p:nvSpPr>
        <p:spPr>
          <a:xfrm>
            <a:off x="7093080" y="3933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0"/>
          <p:cNvSpPr/>
          <p:nvPr/>
        </p:nvSpPr>
        <p:spPr>
          <a:xfrm flipV="1">
            <a:off x="1692360" y="371592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1"/>
          <p:cNvSpPr/>
          <p:nvPr/>
        </p:nvSpPr>
        <p:spPr>
          <a:xfrm flipH="1" flipV="1">
            <a:off x="2195640" y="371592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2"/>
          <p:cNvSpPr/>
          <p:nvPr/>
        </p:nvSpPr>
        <p:spPr>
          <a:xfrm flipV="1">
            <a:off x="1042920" y="357336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3"/>
          <p:cNvSpPr/>
          <p:nvPr/>
        </p:nvSpPr>
        <p:spPr>
          <a:xfrm>
            <a:off x="900000" y="335772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4"/>
          <p:cNvSpPr/>
          <p:nvPr/>
        </p:nvSpPr>
        <p:spPr>
          <a:xfrm>
            <a:off x="1258920" y="2924280"/>
            <a:ext cx="865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6"/>
          <p:cNvSpPr/>
          <p:nvPr/>
        </p:nvSpPr>
        <p:spPr>
          <a:xfrm flipV="1">
            <a:off x="2268360" y="3141360"/>
            <a:ext cx="790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8"/>
          <p:cNvSpPr/>
          <p:nvPr/>
        </p:nvSpPr>
        <p:spPr>
          <a:xfrm flipV="1">
            <a:off x="3203640" y="2349360"/>
            <a:ext cx="216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9"/>
          <p:cNvSpPr/>
          <p:nvPr/>
        </p:nvSpPr>
        <p:spPr>
          <a:xfrm flipV="1">
            <a:off x="3276720" y="213336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0"/>
          <p:cNvSpPr/>
          <p:nvPr/>
        </p:nvSpPr>
        <p:spPr>
          <a:xfrm flipV="1">
            <a:off x="3203640" y="2204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41"/>
          <p:cNvSpPr/>
          <p:nvPr/>
        </p:nvSpPr>
        <p:spPr>
          <a:xfrm>
            <a:off x="3276720" y="3141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42"/>
          <p:cNvSpPr/>
          <p:nvPr/>
        </p:nvSpPr>
        <p:spPr>
          <a:xfrm>
            <a:off x="3203640" y="306864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3"/>
          <p:cNvSpPr/>
          <p:nvPr/>
        </p:nvSpPr>
        <p:spPr>
          <a:xfrm flipV="1">
            <a:off x="3276720" y="3068280"/>
            <a:ext cx="1726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4"/>
          <p:cNvSpPr/>
          <p:nvPr/>
        </p:nvSpPr>
        <p:spPr>
          <a:xfrm>
            <a:off x="5076720" y="3141720"/>
            <a:ext cx="71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5"/>
          <p:cNvSpPr/>
          <p:nvPr/>
        </p:nvSpPr>
        <p:spPr>
          <a:xfrm flipV="1">
            <a:off x="5076720" y="278136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6"/>
          <p:cNvSpPr/>
          <p:nvPr/>
        </p:nvSpPr>
        <p:spPr>
          <a:xfrm>
            <a:off x="5076720" y="3068640"/>
            <a:ext cx="1079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7"/>
          <p:cNvSpPr/>
          <p:nvPr/>
        </p:nvSpPr>
        <p:spPr>
          <a:xfrm>
            <a:off x="5148360" y="3068640"/>
            <a:ext cx="20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48"/>
          <p:cNvSpPr/>
          <p:nvPr/>
        </p:nvSpPr>
        <p:spPr>
          <a:xfrm>
            <a:off x="5148360" y="3068640"/>
            <a:ext cx="20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49"/>
          <p:cNvSpPr/>
          <p:nvPr/>
        </p:nvSpPr>
        <p:spPr>
          <a:xfrm>
            <a:off x="2637720" y="530064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 A e D tre gradi di s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1967 una ricerca di Stanley Milgram dimostrò che ogni abitante degli Stati Uniti aveva in media tre gradi di separazione da ogni altro abi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cerche più recenti hanno rivelato come oggi tra gli abitanti del pianeta i gradi di separazione siano tra sei e s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e comunità virtuali: un po’ di st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gruppi di discussione sono una sorta di “comunità virtuale”* (una sorta di connubio tra la mail e i forum odierni) nacquero in Usa alla fine degli anni 70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ora oggi considerato il “seme” da cui è nata e si è diffusa la cultur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senet i messagg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sono categorizzati i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grou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sviluppano in discussioni defini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hread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ando un programma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ogle groups ha raccolto l’eredità di Usenet (di cui detiene l’archiv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956880" y="6184800"/>
            <a:ext cx="54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* Concetto introdotto da Howard Rheingold nel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BB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Bullettin Board System) sono stati i primi network soc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seguito giunser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ociti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Tripo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i primi che consentirono agli utenti di caricare pagine web e di chattare in rooms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imo social network ufficialmente riconosciuto è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Sixdegree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anciato nel 1997 fu chiuso nel 2000 per lasciare il passo a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Friendst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2002) che per primo introdusse dettagli sul profilo e la possibilità di caricare immag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8" descr="sixdegrees%20logo.jpg"/>
          <p:cNvPicPr/>
          <p:nvPr/>
        </p:nvPicPr>
        <p:blipFill>
          <a:blip r:embed="rId1"/>
          <a:stretch/>
        </p:blipFill>
        <p:spPr>
          <a:xfrm>
            <a:off x="5292720" y="1628640"/>
            <a:ext cx="301608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lle comunità online ai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95480" y="1700280"/>
            <a:ext cx="82296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nascita degli SNS indica un cambiamento nella organizzazione delle comunità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comunità online iniziali (come Usenet e i forum di discussione) erano strutturati per argomenti o per gerarchie di argomenti, gli SNS, invece, sono strutturati come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reti person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o “egocentriche”), con l’individuo al centro della propria comunità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a sono 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yd ed Ellison* definiscono i social network come: “servizi web che permettono agli utenti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ruire un profilo pubblico o semi pubblico all’interno di un perimetro circoscri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icolare una lista di altri utenti con i quali condividere un legame/conn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dere e incrociare la propria lista di contatti e quelli fatti da altri all’interno del siste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imenti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70580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ocial network possono essere definiti come “spazi sociali basati su Internet, o device mobili, disegnati per facilitare la comunicazione, collaborazione e scambi di contenuti attraverso una rete di contatt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Qualcosa in com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22400" y="1341360"/>
            <a:ext cx="77263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social network più diffusi hanno comunque della </a:t>
            </a:r>
            <a:r>
              <a:rPr b="0" lang="it-IT" sz="2000" spc="-1" strike="noStrike" u="sng">
                <a:solidFill>
                  <a:srgbClr val="c6100c"/>
                </a:solidFill>
                <a:uFillTx/>
                <a:latin typeface="Arial"/>
              </a:rPr>
              <a:t>caratteristiche tipi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cco le princi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Profil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generalmente costituito da una hp personale o di gruppo con testi, immagini è lista degli “amici”. Possono esistere diversi template da adottare, con maggiore o minore libertà di strutturare la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Am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a rete di relazioni può assumere diverse denominazioni. Previsti inviti e accettazioni per farne parte. Le reti in genere sono permeabili (posso navigare nella rete di un am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Comunic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Messaggi e commenti sono il flusso comunicativo della rete (integrati da foto e vi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tipologia d’u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09160" y="1341000"/>
            <a:ext cx="4038840" cy="34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re o sviluppare amici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rcare contenuti 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re e condividere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5148360" y="1370160"/>
            <a:ext cx="40384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reare confidenza/fiducia nel mar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Reclutare clienti e dipen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1109520" y="4826160"/>
            <a:ext cx="77104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DIDAT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zione tra studenti, docenti e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viluppo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ve si parla di Netwo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/>
          <p:cNvSpPr/>
          <p:nvPr/>
        </p:nvSpPr>
        <p:spPr>
          <a:xfrm>
            <a:off x="1258920" y="2492280"/>
            <a:ext cx="990720" cy="609840"/>
          </a:xfrm>
          <a:prstGeom prst="wedgeRoundRectCallout">
            <a:avLst>
              <a:gd name="adj1" fmla="val 1921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ed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5"/>
          <p:cNvSpPr/>
          <p:nvPr/>
        </p:nvSpPr>
        <p:spPr>
          <a:xfrm>
            <a:off x="3809880" y="51055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migrant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6"/>
          <p:cNvSpPr/>
          <p:nvPr/>
        </p:nvSpPr>
        <p:spPr>
          <a:xfrm>
            <a:off x="1219320" y="4495680"/>
            <a:ext cx="914400" cy="609840"/>
          </a:xfrm>
          <a:prstGeom prst="wedgeRoundRectCallout">
            <a:avLst>
              <a:gd name="adj1" fmla="val 47569"/>
              <a:gd name="adj2" fmla="val 9166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Innovation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/>
          <p:cNvSpPr/>
          <p:nvPr/>
        </p:nvSpPr>
        <p:spPr>
          <a:xfrm>
            <a:off x="5562720" y="2666880"/>
            <a:ext cx="914400" cy="609840"/>
          </a:xfrm>
          <a:prstGeom prst="wedgeRoundRectCallout">
            <a:avLst>
              <a:gd name="adj1" fmla="val 64583"/>
              <a:gd name="adj2" fmla="val 825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5867280" y="4495680"/>
            <a:ext cx="1219320" cy="609840"/>
          </a:xfrm>
          <a:prstGeom prst="wedgeRoundRectCallout">
            <a:avLst>
              <a:gd name="adj1" fmla="val -45310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2895480" y="2590920"/>
            <a:ext cx="914400" cy="609480"/>
          </a:xfrm>
          <a:prstGeom prst="wedgeRoundRectCallout">
            <a:avLst>
              <a:gd name="adj1" fmla="val -20657"/>
              <a:gd name="adj2" fmla="val 108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go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696080" y="27432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on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7467480" y="5105520"/>
            <a:ext cx="1067040" cy="609480"/>
          </a:xfrm>
          <a:prstGeom prst="wedgeRoundRectCallout">
            <a:avLst>
              <a:gd name="adj1" fmla="val -30356"/>
              <a:gd name="adj2" fmla="val 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4191120" y="35053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c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/sviluppare contatti e amici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ovare contenuti/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re con altr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laborare e condividere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stare aggiornamenti sulla propria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affezione al mar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stione della reputazion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clutamento di clienti e impie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rendimento su tecnologie e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Educ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zione tra studenti, insegnanti e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viluppo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segnamento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e tipologie d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NERALIS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Facebook, MySpace che connettono persone di ogni tipo per gli scopi più v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INTERES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Linkedin, Flickr, Youtube, Delicious: alla base c’è sempre un interesse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SCOP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raccolgono persone che hanno uno scopo di azione specifico (spesso politico o associ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2118960" y="638172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Vincos –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3" descr="social_net_world_users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05620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4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op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15440" y="611352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Vincos, giugn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li Outsi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ocial network brasiliano (operato da Google) registra la penetrazione domestica più elevata (70%) di qualsiasi social network n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ltre a essere primo in classifica, detiene anche il più elevato Average Time per Visitor tra i 75 brand più popolari del mondo. Il tempo passato dagli utenti su FB è cresciuto più del 566% in un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9" descr="facebook.jpg"/>
          <p:cNvPicPr/>
          <p:nvPr/>
        </p:nvPicPr>
        <p:blipFill>
          <a:blip r:embed="rId1"/>
          <a:stretch/>
        </p:blipFill>
        <p:spPr>
          <a:xfrm>
            <a:off x="5651640" y="1268280"/>
            <a:ext cx="1800000" cy="561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8" descr="orkut-logo.jpg"/>
          <p:cNvPicPr/>
          <p:nvPr/>
        </p:nvPicPr>
        <p:blipFill>
          <a:blip r:embed="rId2"/>
          <a:stretch/>
        </p:blipFill>
        <p:spPr>
          <a:xfrm>
            <a:off x="1476360" y="1268280"/>
            <a:ext cx="1873440" cy="68760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8"/>
          <p:cNvSpPr/>
          <p:nvPr/>
        </p:nvSpPr>
        <p:spPr>
          <a:xfrm>
            <a:off x="2991240" y="63086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rcia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rso la conquista di nuovi territori non accenna a fermarsi (sono 111 su 131 le nazioni in cui risulta dominante). In questi mesi ha avuto la meglio su reti sociali locali che sembravano difficili da scavalcare com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iendst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le Filippin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retc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Taiwan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Lituania 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i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Portogallo, Peru, Romania, Tailan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ku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strappato l’Estonia e forse l’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paesi che resistono sono quelli dell’ex Unione Sovietica, affezionati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dnoklassnik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 Kontak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 in Europa l’Ungheria, la Polonia e l’Ol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s almost colonized Europe and it’s extending its domination with more than 500 millions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Q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eader in China, is the largest social network of the world (300 millions active accounts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ySp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st its leadership everywhere (except in Guam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 Kontak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s the most popular in Russian territories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k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India and Brazil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i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ill leading in Peru, Colombia, Ecuador and other scattered countries such as Portugal, Mongolia, Roman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dnoklassnik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some former territories of the Soviet Un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ktoob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the most important Arab community/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sono le SN? Cos’è la Social Network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homenetwork"/>
          <p:cNvPicPr/>
          <p:nvPr/>
        </p:nvPicPr>
        <p:blipFill>
          <a:blip r:embed="rId1"/>
          <a:stretch/>
        </p:blipFill>
        <p:spPr>
          <a:xfrm>
            <a:off x="1316160" y="299412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697640" y="3581280"/>
            <a:ext cx="38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Analysis è una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 il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ercatori, politici e persone d’og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 parlano di Reti attorno a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 cos’è una Re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6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rappresentano il segmento con la crescita più veloce di Internet. Circa 3 volte il tasso di crescita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stanno crescendo al tasso annuale del 47% e raggiungono il 45% del totale degli uten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e i blog sono al 4° posto delle attività online più popolar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11 minuti si registra un nuovo membro online sui soci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i da Facebook e Twitter, il tempo globale trascorso sui siti social network aumenta dell’82% l’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opolarità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74508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obalmente, i social networks e i blog sono le categorie più popolari online se considerate </a:t>
            </a: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dal punto di vista del tempo trascor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gli utenti nel dicembre 2009. Seguono i giochi e l’instant messa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oltre 300 milioni di visitatori unici, Facebook era a dicembre 2009 il social network più visitato e il 67% degli utenti globali dei social media ha visitato il sito nel corso de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sce anche il tempo in cui mediamente l’utente si collega a Facebook: 6 ore a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social-media-time1"/>
          <p:cNvPicPr/>
          <p:nvPr/>
        </p:nvPicPr>
        <p:blipFill>
          <a:blip r:embed="rId1"/>
          <a:stretch/>
        </p:blipFill>
        <p:spPr>
          <a:xfrm>
            <a:off x="3635280" y="1916280"/>
            <a:ext cx="523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Percentuale dei contatti quotidia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3" descr="graph"/>
          <p:cNvPicPr/>
          <p:nvPr/>
        </p:nvPicPr>
        <p:blipFill>
          <a:blip r:embed="rId1"/>
          <a:stretch/>
        </p:blipFill>
        <p:spPr>
          <a:xfrm>
            <a:off x="1042920" y="1700280"/>
            <a:ext cx="7234200" cy="3979800"/>
          </a:xfrm>
          <a:prstGeom prst="rect">
            <a:avLst/>
          </a:prstGeom>
          <a:ln w="0">
            <a:noFill/>
          </a:ln>
        </p:spPr>
      </p:pic>
      <p:sp>
        <p:nvSpPr>
          <p:cNvPr id="973" name="Text Box 4"/>
          <p:cNvSpPr/>
          <p:nvPr/>
        </p:nvSpPr>
        <p:spPr>
          <a:xfrm>
            <a:off x="2201760" y="6093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elaborazione dati Alexa.com, april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ermanenza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social_network_unique audience_nielsen"/>
          <p:cNvPicPr/>
          <p:nvPr/>
        </p:nvPicPr>
        <p:blipFill>
          <a:blip r:embed="rId1"/>
          <a:stretch/>
        </p:blipFill>
        <p:spPr>
          <a:xfrm>
            <a:off x="1042920" y="1413000"/>
            <a:ext cx="7632720" cy="41004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2756160" y="6040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, gennai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so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5" descr="social_net_vs_email"/>
          <p:cNvPicPr/>
          <p:nvPr/>
        </p:nvPicPr>
        <p:blipFill>
          <a:blip r:embed="rId1"/>
          <a:stretch/>
        </p:blipFill>
        <p:spPr>
          <a:xfrm>
            <a:off x="539640" y="1397160"/>
            <a:ext cx="8136000" cy="488124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6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4 da Mark Zuckerberg,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acebook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ra originariamente utilizzato e limitato nell’ambito del campus universitario di Harvard come ret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erto a tutti nel 2006 (&gt;13 an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oggi il primo social network del mondo per numero di acc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9" descr="facebook.jpg"/>
          <p:cNvPicPr/>
          <p:nvPr/>
        </p:nvPicPr>
        <p:blipFill>
          <a:blip r:embed="rId1"/>
          <a:stretch/>
        </p:blipFill>
        <p:spPr>
          <a:xfrm>
            <a:off x="2771640" y="333360"/>
            <a:ext cx="3600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209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00 mln di utenti a giugn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 mln di utent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ioni in 70 lingue d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 miliardi di foto caricate al m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4 milioni di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75 milioni di accessi giornalieri al profil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cia d’età con il maggiore tasso di crescita: 3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pendenti: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09: 435 milioni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10: 605 mln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9" descr="facebook.jpg"/>
          <p:cNvPicPr/>
          <p:nvPr/>
        </p:nvPicPr>
        <p:blipFill>
          <a:blip r:embed="rId1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niverso di Face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5" descr="Facebook_facilities"/>
          <p:cNvPicPr/>
          <p:nvPr/>
        </p:nvPicPr>
        <p:blipFill>
          <a:blip r:embed="rId1"/>
          <a:stretch/>
        </p:blipFill>
        <p:spPr>
          <a:xfrm>
            <a:off x="468360" y="1557360"/>
            <a:ext cx="82994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8" name="Object 2"/>
          <p:cNvGraphicFramePr/>
          <p:nvPr/>
        </p:nvGraphicFramePr>
        <p:xfrm>
          <a:off x="723960" y="1600200"/>
          <a:ext cx="814212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00200"/>
                    <a:ext cx="81421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0" name="Picture 9" descr="facebook.jpg"/>
          <p:cNvPicPr/>
          <p:nvPr/>
        </p:nvPicPr>
        <p:blipFill>
          <a:blip r:embed="rId3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2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 d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4" descr="facebook_growth"/>
          <p:cNvPicPr/>
          <p:nvPr/>
        </p:nvPicPr>
        <p:blipFill>
          <a:blip r:embed="rId1"/>
          <a:stretch/>
        </p:blipFill>
        <p:spPr>
          <a:xfrm>
            <a:off x="1187280" y="1268280"/>
            <a:ext cx="6266160" cy="52279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facebook.jpg"/>
          <p:cNvPicPr/>
          <p:nvPr/>
        </p:nvPicPr>
        <p:blipFill>
          <a:blip r:embed="rId2"/>
          <a:stretch/>
        </p:blipFill>
        <p:spPr>
          <a:xfrm>
            <a:off x="5724360" y="549360"/>
            <a:ext cx="1800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’è una Re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Diagram 7"/>
          <p:cNvGrpSpPr/>
          <p:nvPr/>
        </p:nvGrpSpPr>
        <p:grpSpPr>
          <a:xfrm>
            <a:off x="2131560" y="2239920"/>
            <a:ext cx="1453680" cy="1952640"/>
            <a:chOff x="2131560" y="2239920"/>
            <a:chExt cx="1453680" cy="1952640"/>
          </a:xfrm>
        </p:grpSpPr>
        <p:sp>
          <p:nvSpPr>
            <p:cNvPr id="810" name="_s1028"/>
            <p:cNvSpPr/>
            <p:nvPr/>
          </p:nvSpPr>
          <p:spPr>
            <a:xfrm flipH="1" flipV="1">
              <a:off x="2566440" y="2936520"/>
              <a:ext cx="14616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_s1029"/>
            <p:cNvSpPr/>
            <p:nvPr/>
          </p:nvSpPr>
          <p:spPr>
            <a:xfrm>
              <a:off x="2238120" y="252576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_s1030"/>
            <p:cNvSpPr/>
            <p:nvPr/>
          </p:nvSpPr>
          <p:spPr>
            <a:xfrm flipH="1">
              <a:off x="2495160" y="3310200"/>
              <a:ext cx="18180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_s1031"/>
            <p:cNvSpPr/>
            <p:nvPr/>
          </p:nvSpPr>
          <p:spPr>
            <a:xfrm>
              <a:off x="213156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_s1032"/>
            <p:cNvSpPr/>
            <p:nvPr/>
          </p:nvSpPr>
          <p:spPr>
            <a:xfrm flipH="1">
              <a:off x="2696760" y="3481560"/>
              <a:ext cx="810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_s1033"/>
            <p:cNvSpPr/>
            <p:nvPr/>
          </p:nvSpPr>
          <p:spPr>
            <a:xfrm>
              <a:off x="2431800" y="368640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_s1034"/>
            <p:cNvSpPr/>
            <p:nvPr/>
          </p:nvSpPr>
          <p:spPr>
            <a:xfrm>
              <a:off x="2938680" y="3479760"/>
              <a:ext cx="8064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_s1035"/>
            <p:cNvSpPr/>
            <p:nvPr/>
          </p:nvSpPr>
          <p:spPr>
            <a:xfrm>
              <a:off x="2914200" y="3686400"/>
              <a:ext cx="36972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_s1036"/>
            <p:cNvSpPr/>
            <p:nvPr/>
          </p:nvSpPr>
          <p:spPr>
            <a:xfrm>
              <a:off x="3037320" y="3308400"/>
              <a:ext cx="182880" cy="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_s1037"/>
            <p:cNvSpPr/>
            <p:nvPr/>
          </p:nvSpPr>
          <p:spPr>
            <a:xfrm>
              <a:off x="321588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_s1038"/>
            <p:cNvSpPr/>
            <p:nvPr/>
          </p:nvSpPr>
          <p:spPr>
            <a:xfrm flipV="1">
              <a:off x="3001320" y="2935080"/>
              <a:ext cx="145800" cy="16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_s1039"/>
            <p:cNvSpPr/>
            <p:nvPr/>
          </p:nvSpPr>
          <p:spPr>
            <a:xfrm>
              <a:off x="3107880" y="2525760"/>
              <a:ext cx="36936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_s1040"/>
            <p:cNvSpPr/>
            <p:nvPr/>
          </p:nvSpPr>
          <p:spPr>
            <a:xfrm flipV="1">
              <a:off x="2857320" y="2745000"/>
              <a:ext cx="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_s1041"/>
            <p:cNvSpPr/>
            <p:nvPr/>
          </p:nvSpPr>
          <p:spPr>
            <a:xfrm>
              <a:off x="2673000" y="223992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_s1042"/>
            <p:cNvSpPr/>
            <p:nvPr/>
          </p:nvSpPr>
          <p:spPr>
            <a:xfrm>
              <a:off x="2673000" y="300204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Diagram 43"/>
          <p:cNvGrpSpPr/>
          <p:nvPr/>
        </p:nvGrpSpPr>
        <p:grpSpPr>
          <a:xfrm>
            <a:off x="5911200" y="2265120"/>
            <a:ext cx="1131120" cy="1691640"/>
            <a:chOff x="5911200" y="2265120"/>
            <a:chExt cx="1131120" cy="1691640"/>
          </a:xfrm>
        </p:grpSpPr>
        <p:sp>
          <p:nvSpPr>
            <p:cNvPr id="826" name="_s1045"/>
            <p:cNvSpPr/>
            <p:nvPr/>
          </p:nvSpPr>
          <p:spPr>
            <a:xfrm flipH="1">
              <a:off x="6203160" y="3434040"/>
              <a:ext cx="137880" cy="1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_s1046"/>
            <p:cNvSpPr/>
            <p:nvPr/>
          </p:nvSpPr>
          <p:spPr>
            <a:xfrm>
              <a:off x="5911200" y="343584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_s1047"/>
            <p:cNvSpPr/>
            <p:nvPr/>
          </p:nvSpPr>
          <p:spPr>
            <a:xfrm>
              <a:off x="6612120" y="3434040"/>
              <a:ext cx="13680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_s1048"/>
            <p:cNvSpPr/>
            <p:nvPr/>
          </p:nvSpPr>
          <p:spPr>
            <a:xfrm>
              <a:off x="6729120" y="343728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_s1049"/>
            <p:cNvSpPr/>
            <p:nvPr/>
          </p:nvSpPr>
          <p:spPr>
            <a:xfrm flipV="1">
              <a:off x="6476760" y="278280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_s1050"/>
            <p:cNvSpPr/>
            <p:nvPr/>
          </p:nvSpPr>
          <p:spPr>
            <a:xfrm>
              <a:off x="6320520" y="22651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_s1051"/>
            <p:cNvSpPr/>
            <p:nvPr/>
          </p:nvSpPr>
          <p:spPr>
            <a:xfrm>
              <a:off x="6320520" y="30463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Diagram 121"/>
          <p:cNvGrpSpPr/>
          <p:nvPr/>
        </p:nvGrpSpPr>
        <p:grpSpPr>
          <a:xfrm>
            <a:off x="4245480" y="1273320"/>
            <a:ext cx="1034280" cy="2102760"/>
            <a:chOff x="4245480" y="1273320"/>
            <a:chExt cx="1034280" cy="2102760"/>
          </a:xfrm>
        </p:grpSpPr>
        <p:sp>
          <p:nvSpPr>
            <p:cNvPr id="834" name="_s1054"/>
            <p:cNvSpPr/>
            <p:nvPr/>
          </p:nvSpPr>
          <p:spPr>
            <a:xfrm flipH="1">
              <a:off x="4502880" y="2323800"/>
              <a:ext cx="1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_s1055"/>
            <p:cNvSpPr/>
            <p:nvPr/>
          </p:nvSpPr>
          <p:spPr>
            <a:xfrm>
              <a:off x="424548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_s1056"/>
            <p:cNvSpPr/>
            <p:nvPr/>
          </p:nvSpPr>
          <p:spPr>
            <a:xfrm>
              <a:off x="4762440" y="258552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_s1057"/>
            <p:cNvSpPr/>
            <p:nvPr/>
          </p:nvSpPr>
          <p:spPr>
            <a:xfrm>
              <a:off x="4633920" y="285156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_s1058"/>
            <p:cNvSpPr/>
            <p:nvPr/>
          </p:nvSpPr>
          <p:spPr>
            <a:xfrm>
              <a:off x="4890960" y="2323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_s1059"/>
            <p:cNvSpPr/>
            <p:nvPr/>
          </p:nvSpPr>
          <p:spPr>
            <a:xfrm>
              <a:off x="502200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_s1060"/>
            <p:cNvSpPr/>
            <p:nvPr/>
          </p:nvSpPr>
          <p:spPr>
            <a:xfrm flipV="1">
              <a:off x="4762440" y="17960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_s1061"/>
            <p:cNvSpPr/>
            <p:nvPr/>
          </p:nvSpPr>
          <p:spPr>
            <a:xfrm>
              <a:off x="4633920" y="127332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_s1062"/>
            <p:cNvSpPr/>
            <p:nvPr/>
          </p:nvSpPr>
          <p:spPr>
            <a:xfrm>
              <a:off x="463392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Text Box 136"/>
          <p:cNvSpPr/>
          <p:nvPr/>
        </p:nvSpPr>
        <p:spPr>
          <a:xfrm>
            <a:off x="838080" y="4724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37"/>
          <p:cNvSpPr/>
          <p:nvPr/>
        </p:nvSpPr>
        <p:spPr>
          <a:xfrm flipV="1">
            <a:off x="3352680" y="15238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39"/>
          <p:cNvSpPr/>
          <p:nvPr/>
        </p:nvSpPr>
        <p:spPr>
          <a:xfrm>
            <a:off x="4876920" y="1371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40"/>
          <p:cNvSpPr/>
          <p:nvPr/>
        </p:nvSpPr>
        <p:spPr>
          <a:xfrm>
            <a:off x="1174680" y="4888080"/>
            <a:ext cx="7429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nodi, punti o luoghi collegati per mezzo di comunicazione dati, voce e video con lo scopo della “condivision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42"/>
          <p:cNvSpPr/>
          <p:nvPr/>
        </p:nvSpPr>
        <p:spPr>
          <a:xfrm rot="1823400">
            <a:off x="5256720" y="1752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empre più su Facebook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e Youtu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Picture 4" descr="Untitled-2"/>
          <p:cNvPicPr/>
          <p:nvPr/>
        </p:nvPicPr>
        <p:blipFill>
          <a:blip r:embed="rId1"/>
          <a:stretch/>
        </p:blipFill>
        <p:spPr>
          <a:xfrm>
            <a:off x="1116000" y="1327320"/>
            <a:ext cx="69134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2 utilizzò inizialmente gli account di Friendster. Permise per primo la customizzazione della pagina e divenne ben presto il primo social network per numero di u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l luglio 2005 è di proprietà della News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2009 11° sito più popolare a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5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08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nato nel 2003 come social network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to anche per reclutare personale, avviare contatti commerciali o comunque legati al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50 milioni di account in 200 Paesi div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3" descr="linkedin_logo.jpg"/>
          <p:cNvPicPr/>
          <p:nvPr/>
        </p:nvPicPr>
        <p:blipFill>
          <a:blip r:embed="rId1"/>
          <a:stretch/>
        </p:blipFill>
        <p:spPr>
          <a:xfrm>
            <a:off x="3203640" y="333360"/>
            <a:ext cx="25923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 stato di salute dei S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7948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10% degli utenti dei SN produce il 90% dei contenut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asso di abbandono (quelli che hanno un account su Twitter, ma non postano nulla, è del 60% a un mese dalla sottoscrizione), e 90% per periodi più lun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ta affermando una élite di comunicatori digitali: maschi, bianchi, di cultura ele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etention rate a un mese dalla sottoscrizione è più elevato su Facebook e MySpace rispetto a Twitter ritenuto culturalmente più sofisticat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c1f08"/>
                </a:solidFill>
                <a:latin typeface="Arial"/>
              </a:rPr>
              <a:t>Pochi comunicatori reclutano migliaia di lettori: la maggioranza degli utenti del web 2.0 regredisce in tempi brevi dallo status di produttore/consumatore al mero status di consuma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2179800" y="61848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Fonte: Harva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201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le Social Networks hanno a che fare con i K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Diagram 5"/>
          <p:cNvGrpSpPr/>
          <p:nvPr/>
        </p:nvGrpSpPr>
        <p:grpSpPr>
          <a:xfrm>
            <a:off x="2400120" y="1826280"/>
            <a:ext cx="4267080" cy="3632760"/>
            <a:chOff x="2400120" y="1826280"/>
            <a:chExt cx="4267080" cy="3632760"/>
          </a:xfrm>
        </p:grpSpPr>
        <p:sp>
          <p:nvSpPr>
            <p:cNvPr id="1006" name="_s2052"/>
            <p:cNvSpPr/>
            <p:nvPr/>
          </p:nvSpPr>
          <p:spPr>
            <a:xfrm>
              <a:off x="3576600" y="2470680"/>
              <a:ext cx="1914120" cy="18453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2053"/>
            <p:cNvSpPr/>
            <p:nvPr/>
          </p:nvSpPr>
          <p:spPr>
            <a:xfrm>
              <a:off x="4278600" y="1826280"/>
              <a:ext cx="509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2054"/>
            <p:cNvSpPr/>
            <p:nvPr/>
          </p:nvSpPr>
          <p:spPr>
            <a:xfrm>
              <a:off x="4206240" y="3522960"/>
              <a:ext cx="1914480" cy="18453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2055"/>
            <p:cNvSpPr/>
            <p:nvPr/>
          </p:nvSpPr>
          <p:spPr>
            <a:xfrm>
              <a:off x="615708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2056"/>
            <p:cNvSpPr/>
            <p:nvPr/>
          </p:nvSpPr>
          <p:spPr>
            <a:xfrm>
              <a:off x="2946240" y="3522960"/>
              <a:ext cx="1914480" cy="18453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2057"/>
            <p:cNvSpPr/>
            <p:nvPr/>
          </p:nvSpPr>
          <p:spPr>
            <a:xfrm>
              <a:off x="240012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Text Box 13"/>
          <p:cNvSpPr/>
          <p:nvPr/>
        </p:nvSpPr>
        <p:spPr>
          <a:xfrm>
            <a:off x="4122360" y="2971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2895480" y="426708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5"/>
          <p:cNvSpPr/>
          <p:nvPr/>
        </p:nvSpPr>
        <p:spPr>
          <a:xfrm>
            <a:off x="4646520" y="41562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4268520" y="3886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7"/>
          <p:cNvSpPr/>
          <p:nvPr/>
        </p:nvSpPr>
        <p:spPr>
          <a:xfrm>
            <a:off x="1159200" y="537372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Knowledge Management Systems coinvolgono persone, tecnologi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 in modo sovra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3708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studiamo le Social Network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1117440" y="2565360"/>
            <a:ext cx="359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ò che rende le Information Architecture, il Knowledge Management e la Social Network Analysis più vicine, è la reciproca relazione tra persone e conte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Diagram 6"/>
          <p:cNvGrpSpPr/>
          <p:nvPr/>
        </p:nvGrpSpPr>
        <p:grpSpPr>
          <a:xfrm>
            <a:off x="4851360" y="1843560"/>
            <a:ext cx="3632400" cy="3286800"/>
            <a:chOff x="4851360" y="1843560"/>
            <a:chExt cx="3632400" cy="3286800"/>
          </a:xfrm>
        </p:grpSpPr>
        <p:sp>
          <p:nvSpPr>
            <p:cNvPr id="1021" name="_s3076"/>
            <p:cNvSpPr/>
            <p:nvPr/>
          </p:nvSpPr>
          <p:spPr>
            <a:xfrm flipH="1">
              <a:off x="5794560" y="4117680"/>
              <a:ext cx="43488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_s3077"/>
            <p:cNvSpPr/>
            <p:nvPr/>
          </p:nvSpPr>
          <p:spPr>
            <a:xfrm>
              <a:off x="4851360" y="4119120"/>
              <a:ext cx="1009800" cy="1011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_s3078"/>
            <p:cNvSpPr/>
            <p:nvPr/>
          </p:nvSpPr>
          <p:spPr>
            <a:xfrm>
              <a:off x="7104240" y="4119120"/>
              <a:ext cx="436320" cy="2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_s3079"/>
            <p:cNvSpPr/>
            <p:nvPr/>
          </p:nvSpPr>
          <p:spPr>
            <a:xfrm>
              <a:off x="7473960" y="4117680"/>
              <a:ext cx="1009800" cy="1010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_s3080"/>
            <p:cNvSpPr/>
            <p:nvPr/>
          </p:nvSpPr>
          <p:spPr>
            <a:xfrm flipV="1">
              <a:off x="6667560" y="285444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_s3081"/>
            <p:cNvSpPr/>
            <p:nvPr/>
          </p:nvSpPr>
          <p:spPr>
            <a:xfrm>
              <a:off x="6162840" y="1843560"/>
              <a:ext cx="1009440" cy="101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_s3082"/>
            <p:cNvSpPr/>
            <p:nvPr/>
          </p:nvSpPr>
          <p:spPr>
            <a:xfrm>
              <a:off x="6162840" y="3360600"/>
              <a:ext cx="1009440" cy="101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8" name="Picture 15" descr="Illustration: Reciprocal Relationship Between People and Content"/>
            <p:cNvPicPr/>
            <p:nvPr/>
          </p:nvPicPr>
          <p:blipFill>
            <a:blip r:embed="rId1"/>
            <a:stretch/>
          </p:blipFill>
          <p:spPr>
            <a:xfrm>
              <a:off x="5964120" y="3077640"/>
              <a:ext cx="1406880" cy="158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39680" y="1599840"/>
            <a:ext cx="7925040" cy="21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ocial network analysis [SNA] consiste nel mappare e misurare relazioni e flussi tra persone, gruppi, organizzazioni, computers ed altre entità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nodi della rete sono le persone ed I gruppi mentre gli archi mostrano relazioni o flussi tra I no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4" descr="Social-network"/>
          <p:cNvPicPr/>
          <p:nvPr/>
        </p:nvPicPr>
        <p:blipFill>
          <a:blip r:embed="rId1"/>
          <a:stretch/>
        </p:blipFill>
        <p:spPr>
          <a:xfrm>
            <a:off x="2286000" y="3657600"/>
            <a:ext cx="438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3"/>
          <p:cNvSpPr/>
          <p:nvPr/>
        </p:nvSpPr>
        <p:spPr>
          <a:xfrm>
            <a:off x="1042920" y="2276640"/>
            <a:ext cx="813456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corpus teorico e i modelli usati per lo studio delle reti sociali sono compresi nella cosiddett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ocial networ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ricerca condotta nell'ambito di diversi approcci disciplinari ha evidenziato come le reti sociali operino a più livelli (dalle famiglie alle comunità nazionali) e svolgano un ruolo cruciale nel determinare le modalità di risoluzione di problemi e i sistemi di gestione delle organizzazioni, nonché le possibilità dei singoli individui di raggiungere i propri obie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metafora dei social network è stata utilizzata per più di un secolo per rappresentare insiemi di complesse interrelazioni tra i membri di un sistema sociale su varie scale, da quelle interpersonali a quelle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3512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6327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Lo studio dei network sociali si è trasformata dall’essere una suggestiva metafora per diventare un approccio analitico vero proprio, con i suoi enunciati teorici, metodi di ricerca specifici e ricercatori specializz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Vengono utilizzati in diversi settori della scienza applicata: antropologia, biologia, studi di comunicazione, economia, geografia, informatica, organizzazione, psicologia sociale e socio-linguist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Metodi di misura nei social netwo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Hanno lo scopo di studiare diverse propriet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, coes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di clustering ('cliquishness‘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struttural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MS PGothic"/>
              </a:rPr>
              <a:t>CENTRA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: indicazione del potere sociale dei nodi basato sulla loro capacità di rendere “connesso” i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26" descr="j0195384"/>
          <p:cNvPicPr/>
          <p:nvPr/>
        </p:nvPicPr>
        <p:blipFill>
          <a:blip r:embed="rId1"/>
          <a:stretch/>
        </p:blipFill>
        <p:spPr>
          <a:xfrm>
            <a:off x="7696080" y="27432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8" descr="j0292020"/>
          <p:cNvPicPr/>
          <p:nvPr/>
        </p:nvPicPr>
        <p:blipFill>
          <a:blip r:embed="rId2"/>
          <a:stretch/>
        </p:blipFill>
        <p:spPr>
          <a:xfrm>
            <a:off x="4191120" y="2973240"/>
            <a:ext cx="1143000" cy="1392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9" descr="j0301252"/>
          <p:cNvPicPr/>
          <p:nvPr/>
        </p:nvPicPr>
        <p:blipFill>
          <a:blip r:embed="rId3"/>
          <a:stretch/>
        </p:blipFill>
        <p:spPr>
          <a:xfrm>
            <a:off x="7543800" y="4419720"/>
            <a:ext cx="1143000" cy="14126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0" descr="j0234687"/>
          <p:cNvPicPr/>
          <p:nvPr/>
        </p:nvPicPr>
        <p:blipFill>
          <a:blip r:embed="rId4"/>
          <a:stretch/>
        </p:blipFill>
        <p:spPr>
          <a:xfrm>
            <a:off x="4191120" y="4594320"/>
            <a:ext cx="1228680" cy="10666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1" descr="j0234657"/>
          <p:cNvPicPr/>
          <p:nvPr/>
        </p:nvPicPr>
        <p:blipFill>
          <a:blip r:embed="rId5"/>
          <a:stretch/>
        </p:blipFill>
        <p:spPr>
          <a:xfrm>
            <a:off x="617220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4" descr="j0302953"/>
          <p:cNvPicPr/>
          <p:nvPr/>
        </p:nvPicPr>
        <p:blipFill>
          <a:blip r:embed="rId6"/>
          <a:stretch/>
        </p:blipFill>
        <p:spPr>
          <a:xfrm>
            <a:off x="6095880" y="13716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5" name="Line 37"/>
          <p:cNvSpPr/>
          <p:nvPr/>
        </p:nvSpPr>
        <p:spPr>
          <a:xfrm flipH="1">
            <a:off x="5409720" y="41148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8"/>
          <p:cNvSpPr/>
          <p:nvPr/>
        </p:nvSpPr>
        <p:spPr>
          <a:xfrm flipH="1" flipV="1">
            <a:off x="5334120" y="3276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9"/>
          <p:cNvSpPr/>
          <p:nvPr/>
        </p:nvSpPr>
        <p:spPr>
          <a:xfrm flipV="1">
            <a:off x="6705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40"/>
          <p:cNvSpPr/>
          <p:nvPr/>
        </p:nvSpPr>
        <p:spPr>
          <a:xfrm flipV="1">
            <a:off x="7238880" y="3504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1"/>
          <p:cNvSpPr/>
          <p:nvPr/>
        </p:nvSpPr>
        <p:spPr>
          <a:xfrm>
            <a:off x="7238880" y="4114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3"/>
          <p:cNvSpPr/>
          <p:nvPr/>
        </p:nvSpPr>
        <p:spPr>
          <a:xfrm>
            <a:off x="1201680" y="1276200"/>
            <a:ext cx="502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al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è una descrizione di una struttura sociale fra attori, principalmente individui o organizzazioni. Essa specifica il modo in cui gli attori sono connessi attraverso viarie relazioni sociali, che vanno da conoscenze causali fino a rapporti parent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a centralità cerca di misurar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’importanza di un ver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grad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sono conessi a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vicinanz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o vicino sono a tutti gli altri nod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intermediazi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hanno bisogno di me come intermediario nelle loro comunicazion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Primi studi sulla central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3"/>
          <p:cNvSpPr/>
          <p:nvPr/>
        </p:nvSpPr>
        <p:spPr>
          <a:xfrm>
            <a:off x="971640" y="1052640"/>
            <a:ext cx="770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’idea di centralità applicata alla comunicazione tra individui fu introdotta dallo studioso di psicosociologia americano Bavelas nel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tudi riguardante la comunicazione in piccoli gruppi di individui: ipotesi di relazione tra centralità strutturale e influenza all’interno di processi di gr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e ricerche evidenziarono legame tra centralità e efficienza del gruppo in processi di problem-solving, percezione della leadership e personale soddisfazione dei partecipanti al grup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Freeman “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Centrality in social networks: conceptual clarification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MS PGothic"/>
              </a:rPr>
              <a:t>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1044720" y="1268280"/>
            <a:ext cx="7848360" cy="51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sociologo L. Freeman scrive, nel 1979: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'idea di centralità è viva ed è stata mobilitata in una varietà di applicazioni sempre più ampia. Tutti concordano, a quanto pare, sul fatto che la centralità sia un importante attributo della struttura di un network sociale. Tutti convengono sul fatto che essa sia fortemente legata ad altre importanti proprietà e processi all'interno di un gruppo. Ma qui il consenso finisce. Non vi è sicuramente accordo su cosa sia esattamente la centralità o sulle sue radici concettuali, e vi è poco consenso sulle corrette procedure per la sua misurazione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2"/>
          <p:cNvGrpSpPr/>
          <p:nvPr/>
        </p:nvGrpSpPr>
        <p:grpSpPr>
          <a:xfrm>
            <a:off x="2846520" y="1215360"/>
            <a:ext cx="3973680" cy="4143600"/>
            <a:chOff x="2846520" y="1215360"/>
            <a:chExt cx="3973680" cy="4143600"/>
          </a:xfrm>
        </p:grpSpPr>
        <p:sp>
          <p:nvSpPr>
            <p:cNvPr id="1045" name="Oval 3"/>
            <p:cNvSpPr/>
            <p:nvPr/>
          </p:nvSpPr>
          <p:spPr>
            <a:xfrm>
              <a:off x="4717080" y="3137400"/>
              <a:ext cx="188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4"/>
            <p:cNvGrpSpPr/>
            <p:nvPr/>
          </p:nvGrpSpPr>
          <p:grpSpPr>
            <a:xfrm>
              <a:off x="3081240" y="1838160"/>
              <a:ext cx="1698120" cy="1356840"/>
              <a:chOff x="3081240" y="1838160"/>
              <a:chExt cx="1698120" cy="1356840"/>
            </a:xfrm>
          </p:grpSpPr>
          <p:sp>
            <p:nvSpPr>
              <p:cNvPr id="1047" name="Oval 5"/>
              <p:cNvSpPr/>
              <p:nvPr/>
            </p:nvSpPr>
            <p:spPr>
              <a:xfrm>
                <a:off x="3081240" y="1838160"/>
                <a:ext cx="188640" cy="17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6"/>
              <p:cNvSpPr/>
              <p:nvPr/>
            </p:nvSpPr>
            <p:spPr>
              <a:xfrm>
                <a:off x="3205800" y="1955520"/>
                <a:ext cx="1573560" cy="12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7"/>
            <p:cNvGrpSpPr/>
            <p:nvPr/>
          </p:nvGrpSpPr>
          <p:grpSpPr>
            <a:xfrm>
              <a:off x="3936600" y="1215360"/>
              <a:ext cx="906480" cy="2012400"/>
              <a:chOff x="3936600" y="1215360"/>
              <a:chExt cx="906480" cy="2012400"/>
            </a:xfrm>
          </p:grpSpPr>
          <p:sp>
            <p:nvSpPr>
              <p:cNvPr id="1050" name="Oval 8"/>
              <p:cNvSpPr/>
              <p:nvPr/>
            </p:nvSpPr>
            <p:spPr>
              <a:xfrm rot="1749000">
                <a:off x="3966840" y="1249920"/>
                <a:ext cx="187920" cy="174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9"/>
              <p:cNvSpPr/>
              <p:nvPr/>
            </p:nvSpPr>
            <p:spPr>
              <a:xfrm>
                <a:off x="4076640" y="1380600"/>
                <a:ext cx="766440" cy="18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10"/>
            <p:cNvGrpSpPr/>
            <p:nvPr/>
          </p:nvGrpSpPr>
          <p:grpSpPr>
            <a:xfrm>
              <a:off x="4802040" y="1276200"/>
              <a:ext cx="838080" cy="2008800"/>
              <a:chOff x="4802040" y="1276200"/>
              <a:chExt cx="838080" cy="2008800"/>
            </a:xfrm>
          </p:grpSpPr>
          <p:sp>
            <p:nvSpPr>
              <p:cNvPr id="1053" name="Oval 11"/>
              <p:cNvSpPr/>
              <p:nvPr/>
            </p:nvSpPr>
            <p:spPr>
              <a:xfrm rot="4126800">
                <a:off x="5428800" y="1299960"/>
                <a:ext cx="18072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2"/>
              <p:cNvSpPr/>
              <p:nvPr/>
            </p:nvSpPr>
            <p:spPr>
              <a:xfrm flipH="1">
                <a:off x="4802040" y="1428480"/>
                <a:ext cx="700200" cy="18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13"/>
            <p:cNvGrpSpPr/>
            <p:nvPr/>
          </p:nvGrpSpPr>
          <p:grpSpPr>
            <a:xfrm>
              <a:off x="4816800" y="2335320"/>
              <a:ext cx="2003400" cy="868680"/>
              <a:chOff x="4816800" y="2335320"/>
              <a:chExt cx="2003400" cy="868680"/>
            </a:xfrm>
          </p:grpSpPr>
          <p:sp>
            <p:nvSpPr>
              <p:cNvPr id="1056" name="Oval 14"/>
              <p:cNvSpPr/>
              <p:nvPr/>
            </p:nvSpPr>
            <p:spPr>
              <a:xfrm rot="6981000">
                <a:off x="6609240" y="2360880"/>
                <a:ext cx="17460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"/>
              <p:cNvSpPr/>
              <p:nvPr/>
            </p:nvSpPr>
            <p:spPr>
              <a:xfrm flipH="1">
                <a:off x="4816800" y="2470680"/>
                <a:ext cx="1843200" cy="73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16"/>
            <p:cNvGrpSpPr/>
            <p:nvPr/>
          </p:nvGrpSpPr>
          <p:grpSpPr>
            <a:xfrm>
              <a:off x="4841640" y="3246840"/>
              <a:ext cx="1793880" cy="1241280"/>
              <a:chOff x="4841640" y="3246840"/>
              <a:chExt cx="1793880" cy="1241280"/>
            </a:xfrm>
          </p:grpSpPr>
          <p:sp>
            <p:nvSpPr>
              <p:cNvPr id="1059" name="Oval 17"/>
              <p:cNvSpPr/>
              <p:nvPr/>
            </p:nvSpPr>
            <p:spPr>
              <a:xfrm rot="10545000">
                <a:off x="6440400" y="4307400"/>
                <a:ext cx="188640" cy="173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8"/>
              <p:cNvSpPr/>
              <p:nvPr/>
            </p:nvSpPr>
            <p:spPr>
              <a:xfrm flipH="1" flipV="1">
                <a:off x="4841640" y="3246840"/>
                <a:ext cx="166464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9"/>
            <p:cNvGrpSpPr/>
            <p:nvPr/>
          </p:nvGrpSpPr>
          <p:grpSpPr>
            <a:xfrm>
              <a:off x="4543560" y="3215880"/>
              <a:ext cx="303840" cy="2143080"/>
              <a:chOff x="4543560" y="3215880"/>
              <a:chExt cx="303840" cy="2143080"/>
            </a:xfrm>
          </p:grpSpPr>
          <p:sp>
            <p:nvSpPr>
              <p:cNvPr id="1062" name="Oval 20"/>
              <p:cNvSpPr/>
              <p:nvPr/>
            </p:nvSpPr>
            <p:spPr>
              <a:xfrm rot="13981800">
                <a:off x="4583160" y="5139000"/>
                <a:ext cx="175320" cy="18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21"/>
              <p:cNvSpPr/>
              <p:nvPr/>
            </p:nvSpPr>
            <p:spPr>
              <a:xfrm flipV="1">
                <a:off x="4675320" y="3215880"/>
                <a:ext cx="172080" cy="19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2846520" y="3251160"/>
              <a:ext cx="1916280" cy="1044720"/>
              <a:chOff x="2846520" y="3251160"/>
              <a:chExt cx="1916280" cy="1044720"/>
            </a:xfrm>
          </p:grpSpPr>
          <p:sp>
            <p:nvSpPr>
              <p:cNvPr id="1065" name="Oval 23"/>
              <p:cNvSpPr/>
              <p:nvPr/>
            </p:nvSpPr>
            <p:spPr>
              <a:xfrm rot="17441400">
                <a:off x="2875680" y="4085280"/>
                <a:ext cx="179640" cy="18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24"/>
              <p:cNvSpPr/>
              <p:nvPr/>
            </p:nvSpPr>
            <p:spPr>
              <a:xfrm flipV="1">
                <a:off x="3001680" y="3251160"/>
                <a:ext cx="1761120" cy="9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826920" y="5589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Tutte le misure di centralità attribuiscono centralità massima al fulcro di una stella (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hu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468360" y="270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entralità in un network: misure class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3"/>
          <p:cNvSpPr/>
          <p:nvPr/>
        </p:nvSpPr>
        <p:spPr>
          <a:xfrm>
            <a:off x="826920" y="90792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Possiede il massimo grado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Giace sul massimo numero di geodetiche che collegano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Si trova alla minima distanza da tutti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Immagine 1" descr="stella.png"/>
          <p:cNvPicPr/>
          <p:nvPr/>
        </p:nvPicPr>
        <p:blipFill>
          <a:blip r:embed="rId1"/>
          <a:stretch/>
        </p:blipFill>
        <p:spPr>
          <a:xfrm>
            <a:off x="5981760" y="400680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2"/>
          <p:cNvSpPr/>
          <p:nvPr/>
        </p:nvSpPr>
        <p:spPr>
          <a:xfrm>
            <a:off x="3636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unica la posizione di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Immagine 1" descr="stella.png"/>
          <p:cNvPicPr/>
          <p:nvPr/>
        </p:nvPicPr>
        <p:blipFill>
          <a:blip r:embed="rId1"/>
          <a:stretch/>
        </p:blipFill>
        <p:spPr>
          <a:xfrm>
            <a:off x="6053040" y="357336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3"/>
          <p:cNvSpPr/>
          <p:nvPr/>
        </p:nvSpPr>
        <p:spPr>
          <a:xfrm>
            <a:off x="1150920" y="1125360"/>
            <a:ext cx="4716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"/>
          <p:cNvSpPr/>
          <p:nvPr/>
        </p:nvSpPr>
        <p:spPr>
          <a:xfrm>
            <a:off x="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centrale un individuo i in un dato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Immagine 1" descr="stella.png"/>
          <p:cNvPicPr/>
          <p:nvPr/>
        </p:nvPicPr>
        <p:blipFill>
          <a:blip r:embed="rId1"/>
          <a:stretch/>
        </p:blipFill>
        <p:spPr>
          <a:xfrm>
            <a:off x="6485040" y="907920"/>
            <a:ext cx="2190600" cy="216720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"/>
          <p:cNvSpPr/>
          <p:nvPr/>
        </p:nvSpPr>
        <p:spPr>
          <a:xfrm>
            <a:off x="71280" y="122400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0" y="198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ccia destra 1"/>
          <p:cNvSpPr/>
          <p:nvPr/>
        </p:nvSpPr>
        <p:spPr>
          <a:xfrm>
            <a:off x="1433520" y="258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2"/>
          <p:cNvSpPr/>
          <p:nvPr/>
        </p:nvSpPr>
        <p:spPr>
          <a:xfrm>
            <a:off x="3046320" y="254628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gree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Immagine 5" descr="Schermata 2014-05-04 a 12.05.39.png"/>
          <p:cNvPicPr/>
          <p:nvPr/>
        </p:nvPicPr>
        <p:blipFill>
          <a:blip r:embed="rId2"/>
          <a:stretch/>
        </p:blipFill>
        <p:spPr>
          <a:xfrm>
            <a:off x="179280" y="4022640"/>
            <a:ext cx="882828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Immagine 1" descr="stella.png"/>
          <p:cNvPicPr/>
          <p:nvPr/>
        </p:nvPicPr>
        <p:blipFill>
          <a:blip r:embed="rId1"/>
          <a:stretch/>
        </p:blipFill>
        <p:spPr>
          <a:xfrm>
            <a:off x="6773760" y="1119240"/>
            <a:ext cx="2190960" cy="216540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3"/>
          <p:cNvSpPr/>
          <p:nvPr/>
        </p:nvSpPr>
        <p:spPr>
          <a:xfrm>
            <a:off x="71280" y="86364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       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ccia destra 1"/>
          <p:cNvSpPr/>
          <p:nvPr/>
        </p:nvSpPr>
        <p:spPr>
          <a:xfrm>
            <a:off x="1187280" y="25844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CasellaDiTesto 2"/>
          <p:cNvSpPr/>
          <p:nvPr/>
        </p:nvSpPr>
        <p:spPr>
          <a:xfrm>
            <a:off x="2690280" y="254628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etwe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Immagine 3" descr="Schermata 2014-05-04 a 12.10.16.png"/>
          <p:cNvPicPr/>
          <p:nvPr/>
        </p:nvPicPr>
        <p:blipFill>
          <a:blip r:embed="rId2"/>
          <a:stretch/>
        </p:blipFill>
        <p:spPr>
          <a:xfrm>
            <a:off x="108000" y="3716280"/>
            <a:ext cx="8997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3"/>
          <p:cNvSpPr/>
          <p:nvPr/>
        </p:nvSpPr>
        <p:spPr>
          <a:xfrm>
            <a:off x="71280" y="100800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Immagine 1" descr="stella.png"/>
          <p:cNvPicPr/>
          <p:nvPr/>
        </p:nvPicPr>
        <p:blipFill>
          <a:blip r:embed="rId1"/>
          <a:stretch/>
        </p:blipFill>
        <p:spPr>
          <a:xfrm>
            <a:off x="6773760" y="692280"/>
            <a:ext cx="2190960" cy="216684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ccia destra 1"/>
          <p:cNvSpPr/>
          <p:nvPr/>
        </p:nvSpPr>
        <p:spPr>
          <a:xfrm>
            <a:off x="1187280" y="1936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CasellaDiTesto 2"/>
          <p:cNvSpPr/>
          <p:nvPr/>
        </p:nvSpPr>
        <p:spPr>
          <a:xfrm>
            <a:off x="2688480" y="18972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os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Immagine 4" descr="Schermata 2014-05-04 a 12.15.30.png"/>
          <p:cNvPicPr/>
          <p:nvPr/>
        </p:nvPicPr>
        <p:blipFill>
          <a:blip r:embed="rId2"/>
          <a:stretch/>
        </p:blipFill>
        <p:spPr>
          <a:xfrm>
            <a:off x="179280" y="3278160"/>
            <a:ext cx="88599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09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09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0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1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45"/>
            <p:cNvSpPr/>
            <p:nvPr/>
          </p:nvSpPr>
          <p:spPr>
            <a:xfrm>
              <a:off x="3348000" y="4157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48"/>
          <p:cNvSpPr/>
          <p:nvPr/>
        </p:nvSpPr>
        <p:spPr>
          <a:xfrm>
            <a:off x="2162160" y="189000"/>
            <a:ext cx="3830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(Shaw, 1954, and Nieminen, 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Degree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49"/>
          <p:cNvSpPr/>
          <p:nvPr/>
        </p:nvSpPr>
        <p:spPr>
          <a:xfrm>
            <a:off x="6227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i nodi sono connessi a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51"/>
          <p:cNvSpPr/>
          <p:nvPr/>
        </p:nvSpPr>
        <p:spPr>
          <a:xfrm>
            <a:off x="898560" y="134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Ret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definisce una “rete sociale” come un gruppo di persone connesse da legami sociali (principalmente conoscenze, lavoro e famig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Teoria delle reti sociali studia la società come insieme di relazioni: ogni individuo è condizionato dalle proprie relazioni che sono anche alla base del proprio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14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14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5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6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45"/>
            <p:cNvSpPr/>
            <p:nvPr/>
          </p:nvSpPr>
          <p:spPr>
            <a:xfrm>
              <a:off x="3348000" y="41576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Rectangle 48"/>
          <p:cNvSpPr/>
          <p:nvPr/>
        </p:nvSpPr>
        <p:spPr>
          <a:xfrm>
            <a:off x="1487880" y="0"/>
            <a:ext cx="4502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Closeness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49"/>
          <p:cNvSpPr/>
          <p:nvPr/>
        </p:nvSpPr>
        <p:spPr>
          <a:xfrm>
            <a:off x="6443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o vicino sono a tutti gli altri no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2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1"/>
          <p:cNvSpPr/>
          <p:nvPr/>
        </p:nvSpPr>
        <p:spPr>
          <a:xfrm>
            <a:off x="46656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52"/>
          <p:cNvSpPr/>
          <p:nvPr/>
        </p:nvSpPr>
        <p:spPr>
          <a:xfrm>
            <a:off x="5760" y="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53"/>
          <p:cNvSpPr/>
          <p:nvPr/>
        </p:nvSpPr>
        <p:spPr>
          <a:xfrm>
            <a:off x="2125800" y="2349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125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 esempio: misure di centralit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2" descr="C:\Users\User\Dropbox\DOTTORATO\Seminari\Teoria dei Giochi - Collegio Borromeo\immagini\Schermata 2014-05-04 a 14.57.46.png"/>
          <p:cNvPicPr/>
          <p:nvPr/>
        </p:nvPicPr>
        <p:blipFill>
          <a:blip r:embed="rId1"/>
          <a:stretch/>
        </p:blipFill>
        <p:spPr>
          <a:xfrm>
            <a:off x="2556000" y="1268280"/>
            <a:ext cx="4176720" cy="25988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3" descr="C:\Users\User\Desktop\temporary\tabella.JPG"/>
          <p:cNvPicPr/>
          <p:nvPr/>
        </p:nvPicPr>
        <p:blipFill>
          <a:blip r:embed="rId2"/>
          <a:stretch/>
        </p:blipFill>
        <p:spPr>
          <a:xfrm>
            <a:off x="1908000" y="4411800"/>
            <a:ext cx="56167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gami forti e debo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sociologo Mark Granovetter* identifica tre tipi di legami tipici delle reti soc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OR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stituiti da famigliari, amici e incontri frequ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EBO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oscenti, incontri occa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ASS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ncontri anoni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768240" y="57531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The Strenght of the weak t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Capital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novetter identifica il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capitale soci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somma delle risorse (attuali o virtuali) che un individuo (o un gruppo) possiede per il fatto di avere una rete duratura di relazioni più o meno istituzionalizzate di mutua conoscenza e riconosciment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apitale sociale deriva sia dai legami forti, sia dai legami de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rete sociale “tipica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iando i primati l’antropologo Robin Dunbar ipotizza che esistan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vincoli di carattere cogni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a dimensione di una rete sociale e che la rete sociale “tipica” umana sia composta da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150 individui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88200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17:07Z</dcterms:modified>
  <cp:revision>60</cp:revision>
  <dc:subject/>
  <dc:title>Corso di Ingegneria del Web A A. 2014 2015  Domenico Rosaci  Linguaggi di Scripting</dc:title>
</cp:coreProperties>
</file>